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D7C-767F-45BB-AC63-F4A73440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977-0F5E-49C3-B04D-6173D97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DAF-8E42-4447-B940-5E9DDB16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816-73F3-4596-9D0B-5700FFA9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133D-153E-4509-BCEB-8D10DD8E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9D75-9B44-4CAC-9C8F-2C9085E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73D4-97C0-444B-9921-B18A5DF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278-8A32-40F3-A737-5E994A6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7C6-EB09-4AAB-9021-2034FE4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9797-F9D5-4CF8-A829-49A2F5D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9EFC-3EB5-413D-A3C9-87E6DA8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BBA-7F82-4485-84F4-F174AF3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F39-50F9-42A4-805E-57D8556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350-8DA8-4DCC-968C-A94B7F3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407-E08E-466B-B66B-8FDE6D40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967D-E489-494E-B9A7-E0CE4FE8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8A9A-FEB8-43F7-85B2-0D8B4C1F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4E0-1F79-4C85-A257-80C526C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1ED-78A3-4788-89C1-6D5A3BF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E66-209A-4EDE-85A9-3A812CF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B36-CE00-446C-8807-8B9A961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AA2-6003-44C9-9274-EBABD9C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5A4-6E63-41EC-B9FA-156E423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9C4-9199-4E9A-B105-B2F2EAE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91C-4641-4E02-B035-06B09587B4BE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B64-8C88-43FD-A18E-0502F252408B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b2b2b2"/>
                </a:solidFill>
                <a:latin typeface="Book Antiqua"/>
              </a:rPr>
              <a:t>Web Log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English Subject Curriculu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Blogs</a:t>
            </a:r>
            <a:r>
              <a:rPr b="0" lang="en-GB" sz="2000" spc="-1" strike="noStrike">
                <a:solidFill>
                  <a:srgbClr val="b2b2b2"/>
                </a:solidFill>
                <a:latin typeface="Arial"/>
              </a:rPr>
              <a:t> – </a:t>
            </a:r>
            <a:br>
              <a:rPr sz="2000"/>
            </a:br>
            <a:r>
              <a:rPr b="0" lang="en-GB" sz="2000" spc="-1" strike="noStrike">
                <a:solidFill>
                  <a:srgbClr val="b2b2b2"/>
                </a:solidFill>
                <a:latin typeface="Arial"/>
              </a:rPr>
              <a:t>One of the Most Popular Forms of Communication on the Internet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out 1,6 million post on blogs every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million post on days when there is an event that catches worldwide attention (e.g. natural disas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new blogs are created every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timates indicate that there are 60 million b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English, Japanese and Chine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ost blogs are in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nglish is followed by Japanese and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80% of all blogs are in these three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Blog Cont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o, what do people talk abou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nything and everyth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oli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urrent worl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or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Glob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hilosophic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Lo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elebr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chool and academic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Litera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nvironment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dia encourage bloggers to post their comments to news 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participate in discussions and debates about current news events and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 Gigantic Global Ch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ogs reach millions of people insta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 in countries with high levels of state control of the media have found freedom of speech through b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governments are starting to try to censor blogs (e.g. Ch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b2b2b2"/>
                </a:solidFill>
                <a:latin typeface="Arial"/>
              </a:rPr>
              <a:t>By Nina Sandstrom Angelsen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2-01T00:12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